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80AB-47BD-4B8E-83CC-CA07D84FD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6E7F-47AC-421C-B1C6-D4A5BF4C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9C02-C590-4DEA-9F6C-7D5386E0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D330-16E8-4A48-ADE1-4848C11D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B29E-20EB-44D4-B3CA-40B0FAB0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49C2-A7FE-45CB-960B-FD050FB4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AD79-3DD6-4F95-A995-733A09DD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545B-3FDE-40A3-9854-D7B1F68A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6970-0135-4420-9CD2-F2E38120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0792-6A70-4DA9-BF53-33E040DE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C0FB-48A9-47CF-B65C-16693891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A796-5753-4F8E-94BE-6031D505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4C9B-F3A3-480E-8B9A-5006A02C2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1676520"/>
            <a:ext cx="7010280" cy="29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>
                        <a:alpha val="90196"/>
                      </a:srgbClr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ГЕТСИМАНИЯ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>
                      <a:alpha val="90196"/>
                    </a:srgbClr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0760" y="271440"/>
            <a:ext cx="41173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3300"/>
                </a:solidFill>
                <a:latin typeface="Arial"/>
              </a:rPr>
              <a:t>О , ИСУС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3300"/>
                </a:solidFill>
                <a:latin typeface="Arial"/>
              </a:rPr>
              <a:t>АЗ ВИДЯХ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bg-BG" sz="3200" spc="-1" strike="noStrike">
                <a:solidFill>
                  <a:srgbClr val="ff3300"/>
                </a:solidFill>
                <a:latin typeface="Arial"/>
              </a:rPr>
              <a:t>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3300"/>
                </a:solidFill>
                <a:latin typeface="Arial"/>
              </a:rPr>
              <a:t>В ГЕТСИМ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3300"/>
                </a:solidFill>
                <a:latin typeface="Arial"/>
              </a:rPr>
              <a:t>НА КОЛЕ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3300"/>
                </a:solidFill>
                <a:latin typeface="Arial"/>
              </a:rPr>
              <a:t>ТИ СЕ МОЛИ САМ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695920" y="473040"/>
            <a:ext cx="2958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МОЛЕШЕ С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ТИ НА БО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АКО МОЖ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ТАЗИ ЧА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ДА ОТМИН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3000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4800" y="914400"/>
            <a:ext cx="4604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ff3300"/>
                </a:solidFill>
                <a:latin typeface="Arial"/>
              </a:rPr>
              <a:t>О , ИСУС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ff3300"/>
                </a:solidFill>
                <a:latin typeface="Arial"/>
              </a:rPr>
              <a:t>АЗ ВИДЯХ</a:t>
            </a: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bg-BG" sz="3600" spc="-1" strike="noStrike">
                <a:solidFill>
                  <a:srgbClr val="ff3300"/>
                </a:solidFill>
                <a:latin typeface="Arial"/>
              </a:rPr>
              <a:t>Т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ff3300"/>
                </a:solidFill>
                <a:latin typeface="Arial"/>
              </a:rPr>
              <a:t>В ГЕТСИМ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ff3300"/>
                </a:solidFill>
                <a:latin typeface="Arial"/>
              </a:rPr>
              <a:t>НА КОЛЕН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ff3300"/>
                </a:solidFill>
                <a:latin typeface="Arial"/>
              </a:rPr>
              <a:t>ТИ СЕ МОЛИ САМ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16200" y="990720"/>
            <a:ext cx="324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000000"/>
                </a:solidFill>
                <a:latin typeface="Arial"/>
              </a:rPr>
              <a:t>МОЛЕШЕ С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bg-BG" sz="3600" spc="-1" strike="noStrike">
                <a:solidFill>
                  <a:srgbClr val="000000"/>
                </a:solidFill>
                <a:latin typeface="Arial"/>
              </a:rPr>
              <a:t>ТИ НА БОГ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000000"/>
                </a:solidFill>
                <a:latin typeface="Arial"/>
              </a:rPr>
              <a:t>АКО МОЖ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000000"/>
                </a:solidFill>
                <a:latin typeface="Arial"/>
              </a:rPr>
              <a:t>ТАЗИ ЧА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000000"/>
                </a:solidFill>
                <a:latin typeface="Arial"/>
              </a:rPr>
              <a:t>ДА ОТМИН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2000"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03080" y="990720"/>
            <a:ext cx="5841000" cy="497052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bbe0e3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000000"/>
                </a:solidFill>
                <a:latin typeface="Arial"/>
              </a:rPr>
              <a:t>/ КРЪСТ ТИ ПРЕСТОЕ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000000"/>
                </a:solidFill>
                <a:latin typeface="Arial"/>
              </a:rPr>
              <a:t>И ГОЛЯМА МЪКА ТА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000000"/>
                </a:solidFill>
                <a:latin typeface="Arial"/>
              </a:rPr>
              <a:t>ЗАРАД МЕНЕ  О, ИС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000000"/>
                </a:solidFill>
                <a:latin typeface="Arial"/>
              </a:rPr>
              <a:t>ТИ УВИСНА ТАМ. /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/ ТИ УВИСНА ТАМ.</a:t>
            </a:r>
            <a:r>
              <a:rPr b="1" i="1" lang="bg-BG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/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2000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336840" y="2792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11440" y="228600"/>
            <a:ext cx="5654880" cy="643068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80808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О, ИСУС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МЕ ДИКЛЬОМ Т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КО ЖУ ТА ТУ САР МАР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КО МУЙ ЧУНГАР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МОЛИНГЯН ТУ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Е, ДЕВЛЕС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ПРОСТИЛЕНГЕ ТУ ДЕВ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НАДЖАНЕНА СОКЕРЕ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6000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711440" y="49320"/>
            <a:ext cx="56548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О, ИСУС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МЕ ДИКЛЬОМ Т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КО ЖУ ТА ТУ САР МАР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КОМО ЧУНГАР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МОЛИНГЯН ТУ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Е, ДЕВЛЕС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ПРОСТИЛЕНГЕ ТУ ДЕВ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НАДЖАНЕНА СОКЕРЕ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077320" y="0"/>
            <a:ext cx="1066680" cy="78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2000">
    <p:fad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445840" y="1143000"/>
            <a:ext cx="5218920" cy="4480920"/>
          </a:xfrm>
          <a:prstGeom prst="rect">
            <a:avLst/>
          </a:prstGeom>
          <a:gradFill rotWithShape="0">
            <a:gsLst>
              <a:gs pos="0">
                <a:srgbClr val="ffcc00">
                  <a:alpha val="20000"/>
                </a:srgbClr>
              </a:gs>
              <a:gs pos="100000">
                <a:srgbClr val="ff990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/ КРЪСТ ТИ ПРЕСТОЕ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И ГОЛЯМА МЪКА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ЗАРАД МЕНЕ  О, ИС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ТИ УВИСНА ТАМ. /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/ ТИ УВИСНА ТАМ /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0">
    <p:fad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1:22:23Z</dcterms:created>
  <dc:creator>TrifonTrifonow</dc:creator>
  <dc:description/>
  <dc:language>en-US</dc:language>
  <cp:lastModifiedBy>TrifonTrifonow</cp:lastModifiedBy>
  <dcterms:modified xsi:type="dcterms:W3CDTF">2006-01-11T16:26:21Z</dcterms:modified>
  <cp:revision>3</cp:revision>
  <dc:subject/>
  <dc:title>Slide 1</dc:title>
</cp:coreProperties>
</file>